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3D6-9512-4335-A2C2-91047C2C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EF0-D4E6-4D4D-9C91-FB02A84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93D-E815-4493-96D2-F66CC499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12B-DCE5-402B-A6BB-CB176BDA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34A-FDA5-42E1-92B0-5556C79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0D2-6A3A-4350-93AD-C65CC56D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A50-0A7C-4431-AB39-AF8F9599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90D-E548-487F-953A-08051237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35B-10F7-415D-A476-C621DF2B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AA2-831B-4986-B407-08C98CB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76A-1A80-46AF-92FA-E3112873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2BF-85BB-45BE-AA0B-D7C8A6B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A8B-3685-4A71-826C-DD158CAE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3280" y="170640"/>
            <a:ext cx="76640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ccff"/>
                </a:solidFill>
                <a:latin typeface="comic"/>
              </a:rPr>
              <a:t>95</a:t>
            </a:r>
            <a:r>
              <a:rPr b="1" lang="en-US" sz="4800" spc="-1" strike="noStrike">
                <a:solidFill>
                  <a:srgbClr val="ffccff"/>
                </a:solidFill>
                <a:latin typeface="comic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На живота изворът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във Христовото сърц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Всеки грешник та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умит от греха си, бива чис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91080" y="4464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И разбойник приков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с тази кръв бе оправд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Там да бих и аз доше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опрощение бих прие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5280" y="333360"/>
            <a:ext cx="712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Агнец скъп! Таз кръв св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е спасение на све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Който вярва в Теб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той съучастник става Т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0" y="-160560"/>
            <a:ext cx="44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И откак намер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аз този извор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от тогаз в Теб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Боже, се теш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Monotype Corsiva"/>
              </a:rPr>
              <a:t>благодарен от душа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1:23:21Z</dcterms:created>
  <dc:creator>TrifonTrifonow</dc:creator>
  <dc:description/>
  <dc:language>en-US</dc:language>
  <cp:lastModifiedBy>TrifonTrifonow</cp:lastModifiedBy>
  <dcterms:modified xsi:type="dcterms:W3CDTF">2005-11-23T21:42:10Z</dcterms:modified>
  <cp:revision>10</cp:revision>
  <dc:subject/>
  <dc:title>Slide 1</dc:title>
</cp:coreProperties>
</file>